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DC6F-61AE-4B37-8C76-4F633BAA9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2365C-044C-4489-98AE-E0BE66F1D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3F796-45D3-40C5-944B-DEA1B8374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7B562-B7BC-4879-9995-C57F07F1F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69414-CC32-4935-AC7A-C5BDC81F1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A36D-31E6-4623-A8C3-3F89982F7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7466-8374-4C30-BC14-56B0375F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743F5-7CF1-4FC6-89C4-41AE18A6D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35F44-08A1-4044-8CE9-7CEBCCF45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C05AC-FCDD-4ED4-8507-D806E224F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EE93A-331C-4EB7-BE81-FB51EF78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54289-998F-47C4-AEBD-A21C2C71A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E960-BD7A-490E-B865-25B8177B3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EB0A-8A24-431B-B8BF-FFAF0520FF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ly…</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mp; monadic quality </a:t>
            </a:r>
            <a:endParaRPr b="0" lang="en-US" sz="24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88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 radio buttons</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3"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7"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dapter that talks to FB app profor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e mak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inter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mless &amp; generic integ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P - infer phenotypes from liter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mp to OBD (zf &amp; fb) via pheno-x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5):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 sourcefor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 release ~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John Day-Richter, ShengQiang Shu, Nomi Harris</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taxonomy/genotyp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Anatom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5-20T10:05:11Z</dcterms:modified>
  <cp:revision>105</cp:revision>
  <dc:subject/>
  <dc:title>Phenote</dc:title>
</cp:coreProperties>
</file>